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848-5090-42D7-B375-FFCCCA73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6BB-E6FB-40F8-9F99-04EFF411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352-2710-450D-BD34-AD5B214A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378-7E82-40DC-8D5E-ADE5C0EF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0C9-96F0-465D-BA69-D9264525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43E-28E9-43EC-8051-6AB8391E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EBE-7E62-4BD3-930C-AD9CDFF1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595-355B-4EA3-AF4D-77216F10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B3F-9056-4D16-8506-EF94B42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5F1-42D5-4FB3-B9AE-E2035BB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9F4-F9CE-4C72-A3AB-074FA7F2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0A7-A69E-4646-9FC2-E279A36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AD41-F5C4-4F27-8D0B-4E77FC0B3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f0"/>
                </a:solidFill>
                <a:latin typeface="Jokerman"/>
              </a:rPr>
              <a:t>Ugand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Jokerman"/>
              </a:rPr>
              <a:t>Nayeli Ce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is is the flag of Ug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s://www.cia.gov/library/publications/the-world-factbook/graphics/flags/large/ug-lgflag.gif"/>
          <p:cNvPicPr/>
          <p:nvPr/>
        </p:nvPicPr>
        <p:blipFill>
          <a:blip r:embed="rId1"/>
          <a:stretch/>
        </p:blipFill>
        <p:spPr>
          <a:xfrm>
            <a:off x="457200" y="1371600"/>
            <a:ext cx="8001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0.gstatic.com/images?q=tbn:ANd9GcTMUuM-3w5c54GZ0WJdPAqt6Vde0zOxHmF2-uxPcUWjXLvYEXRn"/>
          <p:cNvPicPr/>
          <p:nvPr/>
        </p:nvPicPr>
        <p:blipFill>
          <a:blip r:embed="rId1"/>
          <a:stretch/>
        </p:blipFill>
        <p:spPr>
          <a:xfrm>
            <a:off x="1371600" y="152280"/>
            <a:ext cx="5791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Jokerman"/>
              </a:rPr>
              <a:t>HERE I A BOY MAKING A TRADITIONAL  DRUM 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75200" y="5562360"/>
            <a:ext cx="5068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Jokerman"/>
              </a:rPr>
              <a:t>here is a  a tribe of men doing a special 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hyhyhy.jpg"/>
          <p:cNvPicPr/>
          <p:nvPr/>
        </p:nvPicPr>
        <p:blipFill>
          <a:blip r:embed="rId1"/>
          <a:stretch/>
        </p:blipFill>
        <p:spPr>
          <a:xfrm>
            <a:off x="457200" y="1219320"/>
            <a:ext cx="395136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s 22.jpg"/>
          <p:cNvPicPr/>
          <p:nvPr/>
        </p:nvPicPr>
        <p:blipFill>
          <a:blip r:embed="rId2"/>
          <a:stretch/>
        </p:blipFill>
        <p:spPr>
          <a:xfrm>
            <a:off x="4800600" y="2286000"/>
            <a:ext cx="38592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3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Jokerman"/>
              </a:rPr>
              <a:t>Country</a:t>
            </a: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Jokerman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Capital city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Kamp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Type of gov.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Multi party Democ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Major religion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Roman Catho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Natural resources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Copper,Cobalt,S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Literacy rate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 rot="20858400">
            <a:off x="23040" y="4651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Jokerman"/>
              </a:rPr>
              <a:t>Although Uganda is in Africa they teach and speak English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 rot="20647800">
            <a:off x="6039720" y="5430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Jokerman"/>
              </a:rPr>
              <a:t>Uganda  is the size of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1248000">
            <a:off x="5245200" y="6919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Uganda is indipendet  since 19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 rot="1029000">
            <a:off x="182520" y="5378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Uganda is land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438280" y="1523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It has many lakes, platus , and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209680" y="4648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The mountain gorillas are endang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057400" y="30481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If you are born in Uganda you live an average of 26 years less than if you are born in the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7:21:28Z</dcterms:created>
  <dc:creator>BHISD</dc:creator>
  <dc:description/>
  <dc:language>en-US</dc:language>
  <cp:lastModifiedBy>BHISD</cp:lastModifiedBy>
  <dcterms:modified xsi:type="dcterms:W3CDTF">2012-03-01T16:17:53Z</dcterms:modified>
  <cp:revision>4</cp:revision>
  <dc:subject/>
  <dc:title>Uganda</dc:title>
</cp:coreProperties>
</file>